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F3E-9CA3-4014-9EB7-58BF3DDC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E9A-D6F3-4265-86B6-B763B025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59E-95E7-406D-B987-6702D983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0ED-8861-4620-93B1-375B3975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863-7461-462C-9D4A-F3409AFA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6DE-0CDE-4CE7-A95D-4358430D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4EE-E9BE-46E3-A9D8-8D321955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E75-EE55-45C1-AD5B-F4C46371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CCF-47F3-4E04-8DFB-07F2EBBF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D15-3924-4208-87C0-1B789044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BBB-E336-49BE-B819-0AECC6CC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DE7-E937-4487-AA0B-D15B9CD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A6E6-D46B-4137-B8F9-8B6266858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755640" y="987480"/>
            <a:ext cx="777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ый педагог XVII века Ян Амос Коменский был первым, кто, идя в ногу с техническим прогрессом, стал использовать это в учебниках, причем по всем предметам, ибо это, по его — совершенно обоснованному — мнению, сильно облегчает усвоение и понимание любого учебного материала. А позже использование этого и вовсе вошло в историю как «золотое правило дидактики». О чем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й педагог  А.С. Макаренко описывает историю одного сердобольного мальчика. Он очень переживал за свою игрушку, потому что ему казалось, что она никогда не может уснуть. Заботясь о ее здоровье, мальчик периодически клал ей на голову тяжелые предметы. Назовите, что это за игр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Жуковский сравнивал воспитание детей с написанием поэтического произведения. Такое произведение он называл сочетанием из двух слов, начинающихся на одну и ту же букву. Напишите это словосочетание, ставшее в тридцатых годах двадцатого века названием знаменитой книги по педагог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евнем Риме — учитель, обучающий детей азам языкознания — грамматик, учитель чтения — литератор, раб, сопровождающий детей в школу и из школы — педагог. А как в Древнем Риме называли учителя арифм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70-х молодой советский учитель позволил себе вольность в своем внешнем виде. Точнее  - отрастил бородку.  В результате чего заслужил выговор от начальства. «На кого ты равняешься! — кричал директор. — На аполитичных стиляг?». «Нет, на него», — невозмутимо ответил учитель и указал на портрет, висящий на стене. Ч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несколько столетий назад появился танец «вальс», многие заметили, что он был гораздо проще популярных тогда танцев, т.к. состоял из очень простых и легко запоминающихся движений. Новый танец стали осуждать не только по моральным соображениям. Первыми, кто выступили против, стали, как ни странно, учителя танцев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85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о, что пророка Моисея иудеи именуют Моше Рабейну, то есть Учитель, Наставник. А юморист Михаил Векслер выразил это в афоризме: «Моисей — всем евреям ...!». Закончите этот афоризм одним иностранным, но далеким от Израиля, словом, синонимом слова «учител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85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и особой субкультуры хиппи или стиляг, распространённой в советское время, любили переделывать привычные нам имена и фамилии на иностранный манер. Так, например, Анна могла стать Энн, а Борис – Боб. Кроме того, они стали называть фамилии известных людей – а именно, Владимира Ильина Ленина и педагога Антона Семеновича Макаренко – фамилиями двух чрезвычайно известных в то время англичан. Нам неизвестно, встречались ли когда-то Макаренко и Ленин. Чего нельзя сказать об этих англичанах, ведь они вместе играли в одной популярной группе. Назовите эту груп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987480"/>
            <a:ext cx="5327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вами изображение купюры в тысячу итальянских лир, на которой находится ребенок. На обратной стороне данной купюры изображена женщина, выдающийся педагог, единственная женщина, включенная в 1988 году ЮНЕСКО в список из четырех человек, определивших способы педагогического мышления в XX веке. В соответствии с её принципом, в центре педагогической системы, как и на изображении купюры, находится ребенок. Назовите фамилию женщ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292720" y="1779480"/>
            <a:ext cx="3714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748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прос состоит из двух истор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 заставке американского мультсериала «Симпсоны» демонстрируется очень популярное в западных школах наказание – а именно написание оной и той же фразы на доске много раз, чтобы лучше ее запомн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Бянг — это блюдо из лапши, подаваемое в китайской провинции Шэньси. _______ Бянг состоит из 56 компонентов и считается одним из самых сложных, поэтому педагог Ванг СижУн использовал его для наказ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в, как связаны эти две истории, напишите, какое слово мы пропустили в предыдущем предложени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18:18:37Z</dcterms:modified>
  <cp:revision>135</cp:revision>
  <dc:subject/>
  <dc:title>Слайд 1</dc:title>
</cp:coreProperties>
</file>